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AC8-51CE-4A0C-BB7E-19C9D7CE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B85-486B-4DBF-A1AF-576D9C4B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7FD-5ABF-41B3-8F5E-1E0469AF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D90-9945-4E82-B235-0849EAD3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38BB-B668-47C6-9068-0839BCFE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0AB3-59DE-4AD4-9829-1FB0C70E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3262-7844-4F7E-A121-DEC4AB1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766F-220F-4FFD-A76C-426880A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C14B-1DB0-4AB2-928B-6A6DB33B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FD4B-2D96-4FF6-95B1-506673B6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6A95-567C-4CC9-91CE-B617FA0E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004-3610-458C-B277-4845B19A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EBFF-85CF-416A-91A6-701E959F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A5AA-F589-4D72-8AC0-C552696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ED0D-B743-4D41-9A2F-F92F2C8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616E-BF01-4D03-9380-320E4EF4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BE37-1380-42E8-AD51-6B990B26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FB2-348C-4A3B-9DA8-4F627857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786-97EC-4736-8643-A8A9BA48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6BF-D156-4B79-AF68-EF8ED9D6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E46-7189-4392-AFF2-BB4813C6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B0E-8BC1-4594-83DB-631324A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621-7F95-416D-B270-32AFFAF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EB8-738D-4128-82C6-9C41F32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AF25-785E-4747-8ED1-0B7A5ADE3535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51BE-7E17-47E1-B632-E20D800D293B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ac.com/cahoon/Site/Holiday_Podcast/Holiday_Podcast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Power of Podcas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HEC Tech Confer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y Christi Caho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podcasting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 introduce podcasting, so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nrichment students created a podcas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odcasting 101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vels of Podcas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udents reading a written pie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liday Podca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ve News Let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ahoon's Crew Liv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dcas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dcasting 10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uder Dril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ording A Podcas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Po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ed to use a microphon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5 iPods available for checkou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ouch doesn’t have microphone quite ye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arage Ba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 your personal laptop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 the computers in the Mobile Mac Lab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arage Ban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en Garage  Ba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reate A New Podcast Episod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ame Your Fil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dd V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dd Picture Fi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om iPhoto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ing the Grab application on your lapto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dd Jing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5:09:49Z</dcterms:created>
  <dc:creator>vhcs</dc:creator>
  <dc:description/>
  <dc:language>en-US</dc:language>
  <cp:lastModifiedBy>vhcs</cp:lastModifiedBy>
  <dcterms:modified xsi:type="dcterms:W3CDTF">2008-02-18T21:47:59Z</dcterms:modified>
  <cp:revision>5</cp:revision>
  <dc:subject/>
  <dc:title>The Power of Podcasting</dc:title>
</cp:coreProperties>
</file>